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580-BE02-4EBC-8111-40EE1180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49B-67A7-4E78-816C-4CBB3DC5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3B1-AE3F-43AA-81F3-3A64D880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277-6813-4C1D-91AA-2864D401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F69-0226-4032-B9DD-95BDAD8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EB6-8E51-47A6-9366-A7A684A9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389-3A4C-4339-835A-4846A41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5B0-0443-43D6-B41D-A5970DFC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B89-22BE-44A3-9408-9EF7E7BB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F41-968F-4838-8A0C-01D53378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532-2FF9-43F6-997B-099DDEE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A6B-EA49-4D87-8CE2-96A0DAE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C746-6C27-4304-B3FA-9E19E447C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619280"/>
            <a:ext cx="734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Root Beer Sit-I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FACT OR OPI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654120"/>
            <a:ext cx="36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Fact vs. Opi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5080" y="17938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048120"/>
            <a:ext cx="796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Which one of these sentences is a f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emember:  A fact is something that is known to be  tru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eal.  Most importantly, a fact can be pro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76920"/>
            <a:ext cx="72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ow can you prove that a statement is actually a f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56272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ich one of these statements can be proven?  Where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e look to prove it?  Can the other sentence be pr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6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ophie is a girl in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ophie’s daddy made better root beers than everyone the United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0640" y="228600"/>
            <a:ext cx="90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ead this example and decide if it is fact or fic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71560"/>
            <a:ext cx="87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he girls lived in Keokuk, Iow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57200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FA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65440" y="324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66680"/>
            <a:ext cx="923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Sophie’s daddy Silas Soifer ma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the best root beer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210200"/>
            <a:ext cx="342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OPIN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685800"/>
            <a:ext cx="775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138560"/>
            <a:ext cx="458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OPIN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1090440"/>
            <a:ext cx="73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Root beer doesn’t taste g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8088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42120" y="4062240"/>
            <a:ext cx="180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066680"/>
            <a:ext cx="744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Benola and Sophie had a sit-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at Sophie’s soda fountain and drugsto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6858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ophie and Benola both thought it was important to be able to sit together.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94280" y="3300480"/>
            <a:ext cx="18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62856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Benola was more scared than Sophie to have the sit-in.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3681360"/>
            <a:ext cx="49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OPINION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04440" y="933480"/>
            <a:ext cx="6014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acts              vs.             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1:23Z</dcterms:created>
  <dc:creator>User</dc:creator>
  <dc:description/>
  <dc:language>en-US</dc:language>
  <cp:lastModifiedBy>Rutherford County Schools</cp:lastModifiedBy>
  <dcterms:modified xsi:type="dcterms:W3CDTF">2007-04-21T15:52:19Z</dcterms:modified>
  <cp:revision>13</cp:revision>
  <dc:subject/>
  <dc:title>No Slide Title</dc:title>
</cp:coreProperties>
</file>